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3AF5-824F-4C81-861E-651C556C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0CC-4A8F-4D28-A1F0-4E195742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0C930-6799-4E13-822D-333CF9A5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44F22-7CC5-4960-B99F-FBF74119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199BD-07C8-4880-A50C-A2EC14C4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255B8-4924-4867-BB90-80E3FF43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94F62-4F68-44C7-A12F-0DDDAAA0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853A4-71F5-4EB6-9C92-453CAD32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30D78-4AE6-48FB-B69D-AB093ECB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EDDC1-01AD-4333-8A21-77A71061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8CD09-0084-4F26-8BF3-2850FDF9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2348C-4685-40E2-946E-432AA522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901-3B34-4BE2-8E91-84C0EE3B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7D8E3-B673-47C4-AFD9-18A53C61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12175-9A49-4A30-B139-6253E393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0DCDF-3053-40A2-8F4B-0D143B18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F1D07-D371-442A-9AB5-3F2C3950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18DED-BB08-4E9E-BCFE-B7ACBEBA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9F235-1B84-4A7F-9B5E-53CB5DFF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6A483-75E0-46ED-8B46-87FC43EB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1A939-DEC0-4749-90C5-C77BE276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A93B8-DF25-4121-B8B0-87595790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22B72-17AC-413E-BB7A-EACF0554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7F6-3205-4437-A218-9D268010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1758C-2356-4EBD-B8DD-D5FED11A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5C9F2-B98F-4795-A34A-92CDB4FC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33B5D-6166-4940-9A28-CB3BD08F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CCC9C-D019-437D-81C2-0068187A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6A4A3-1D34-4E7A-B529-0C421E9A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FFE4E-6D5C-4B94-940D-7F5D38EF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7DA2D-F25B-4832-A7CB-44368405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E6F83-2052-465E-A310-384AA861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13B53-80D8-4A3B-8E1D-5DFF5756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7F0A9-074A-4BD8-950D-1E6CE258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3F46-2C00-4438-9C1E-72F26F36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18C61-7707-48AE-B476-CFE82DEB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A4A6E-9EE1-4B59-95D2-35D1C8D8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06233-FF97-47AC-BD62-09D576BC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70004-A08A-45E1-8DF4-86AB6ADF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61594-0DAD-43E6-95D6-3F1CE8CF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32405-E775-4A04-B159-DC68C7A1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44B84-EEBA-4C20-8F1A-F19C0C4A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D8562-3667-41CC-A295-F5B7091E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555AD-BAD1-4374-8105-81D2BA12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0AA72-F5D9-4E45-A70C-7A6D62FF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A73F-6E36-4E2E-9ED8-392AAA96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680A5-FD5E-4E1B-9CD9-41E58CED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B9895-7B61-465A-9EE5-DAF73B14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FDCF5-04E8-44E3-83FA-7FABD883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15D0F-4742-4C25-920B-8A6EA5AF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62885-E23C-407E-A4F1-A8CC3BFE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0A11-CF6A-438B-AD38-CCC53B6C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615B-BD2F-45BA-9D3B-A3C2F569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A228-377C-4A51-9684-B60B969E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60A6-2C71-4175-8224-3E609B4D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8061-6788-4054-973D-690BA23F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D8C8-589E-4470-B271-3FD327E8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9977-5B1F-4B58-AEBD-F59DCEBB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3C1E-533E-4DC3-AE93-F9F91EBE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15F0-2319-4C04-BF9E-7B9E6195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F6B2-0A4C-424B-80FD-46F41B9B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598B-3212-492B-9AD5-9ACC3A64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63B62-805C-40CF-B15A-6255C30E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F33B6-5CA6-4957-9366-40587DA2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D82A5-F696-44C3-9E8C-F86C26AC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78A39-5DAA-489E-84D7-48D7A676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B8BDB-3573-408B-8D73-1A21C9C4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47B6-EDF5-4A5E-9DDA-C8B430F2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8AE2B-7CBD-4145-92DF-2A3DA025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32748-D00C-44A1-8433-39B4AAD1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DA939-19C1-4795-9CA4-11E0A300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87FE6-0E75-4A31-9003-EFAAF311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A75AF-5582-4679-A747-0D5EA800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E7C4B-E1A8-4405-BB4C-B099D6C1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652D0-DDF7-44D0-AC1B-0D894139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B70E0-514C-44E1-8600-71CDEE02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1F7E5-55CB-4589-8B6C-6D685CF1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7A53E-9BE8-4B38-8CFB-4C025B20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6614-A9DC-431F-B9DD-A218E7D6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D2A4D-8C39-4E92-8521-FACA1493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7337F-3EFB-44D8-877D-A872C428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50959-11C9-40A7-A049-F347DB43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1A113-29FB-4FC6-93F5-30F5259A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3559A-3C0D-486F-85B9-03255F5C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B1532-F802-4E9C-A927-CB14AD57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C5B5B-1503-46CF-B894-36ACF638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A3FD5-3D03-48FF-9681-0B5FC355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0471C-AFA4-44D4-B162-CBDAD781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AAE58D-7ABB-43EC-B9B8-EB3E7191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E33-8FF1-4278-8178-E7182C31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15F4B-EEB3-40D3-9692-C15749C8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5EC51-C4B0-47B4-904B-86016A5C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7EA98F-F01D-4501-8CA9-786F4C2E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A9796C-2594-4781-91FB-83A6FE9C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980A6B-EF3A-4FAB-A87A-CC3D34BB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0BDDE-DF5B-4126-AADF-1C853618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78058-5EAF-4B7C-B6E3-66AA8CA3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56933C-F881-445D-AAD6-8E558ABE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7254BD-DDB8-4C2D-8F3C-A2B11CA8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337D57-9954-41B3-B199-8C9C1FF0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E0A7-3D79-4C27-B762-B0B992C0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DA9D4A-130D-4413-BAF5-483AFF1A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E9747-8EFA-4754-A3E4-3F6D29FF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3BAD3-E0BE-41C6-A428-5626591D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69173-2703-45EB-AF3B-736D0500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F1609-8913-45AE-A359-38DD2FBC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C3540-F426-4A73-B91E-E6CE8ADB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752C8-0ED2-4D67-BC6E-D177F26D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6CED5-69B4-48F5-878A-A7E8AE12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09A5A-DA4B-4C99-83F9-16304311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D8E31-D7C4-4D10-A0F0-7E83E44A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009-0512-4DC9-925A-E3275558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B6B41-E37F-46F7-AE37-DE13A5BF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94BFA-A7D4-437E-A71F-D183D2A3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16BAC-7056-43AB-AC85-27524E96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DDD1D-E7AD-4EDB-81AE-60C4AE9A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F3C47-A228-411B-8882-06B32091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16637-D4DE-48AE-89D9-BC60D173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D8019-FAD1-48A9-8051-8EBF8379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FD1BD-DFB7-431D-84DD-1901C967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7AEC9-A9E1-46AD-82E2-0F523AD6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EBCD3-3EF0-424F-A308-DEDD09FA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C475-65B0-4F0F-92E1-3979C85E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6508C-D660-4139-8516-D5BFDCCB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C1C86-07A4-406A-8677-466CD1A8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B7A98-5284-4EE5-99BF-E42CE4FD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42EC3-8DFD-4316-866E-A17D030E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C8C79-E599-4D32-96F1-6C2DA8B5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2AE84-CA24-4E67-B9E6-7F89A88D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24738-117A-4E4D-9112-49FF37BE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61608-C233-4D6E-8F4D-A8EC1CDA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BF606-C460-4122-8349-AEF425ED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96F90-AD7C-4562-8FE7-4D5B253C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DE4-EBFA-481C-89FF-C7326FC7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67088-E470-408A-901E-1DAC696D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7F493-8E64-41E8-812B-826E6D9E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B1651-9C8F-4596-8816-97D2F720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A35A0-D186-4FE7-96A3-AC54C9D5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FEC5E-3A57-497C-AE22-0C8043BE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40BD3-3CF2-4013-9A5D-099BA677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CC7BE-FA9B-46C3-9446-597E295F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48D76-9E26-48FB-9D8A-759BE9C5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5125F-B31F-4F16-ACC8-ABDC1934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D35F0-C1F8-497D-B0CA-CA0C363A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1F96-1A8C-49C2-AEA6-5A43D714C78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43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6E2E-75A9-4CF5-B19F-BCC6479C6C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BFFF-84E0-4946-8542-32AA427164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F0CA-D297-471D-BD5D-7F7DE0B70E3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250E-8963-4B1D-9AC9-C5F8172763B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D5B5-6D18-46E8-9064-4C8A322489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E6B1-C93B-4305-841B-8135C4A160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3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6FC7-89AC-4A7F-8C24-60E7742007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0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53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505E-9667-47B9-899B-0563A4922A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04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08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F3DB-6AFF-4661-BE8D-635FA8E1F50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52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55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CA21-EF44-47D1-9B44-7DF74E8038E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98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C2FE-C7F5-48E5-960B-7481C0A369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Формування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інформатичних компетентностей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студентів ВПНЗ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засобами функціональної мови програмування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e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1258560" y="5013360"/>
            <a:ext cx="77770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Доповідач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асистент кафедри інформатики та прикладної математи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Криворізького державного педагогічного університет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Мінтій Ірина Сергіївн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2439720" y="357120"/>
            <a:ext cx="416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Міністерство освіти і науки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Черкаський технічний уні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D2B4E-E271-49AB-A33B-2C0887E227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Продовження:</a:t>
            </a:r>
            <a:br>
              <a:rPr sz="2000"/>
            </a:b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Фундаментальні розділи інформатики (Н.В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Морз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системи штучного інтелекту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комп’ютерне моделюванн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аналіз і моделювання систем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дискретна математик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теоретичне програмуванн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соціальна інформатик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66"/>
                </a:solidFill>
                <a:latin typeface="Comic Sans MS"/>
              </a:rPr>
              <a:t>комп’ютерні комунікації і мережі та глобальна мережа Інтерне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66"/>
                </a:solidFill>
                <a:latin typeface="Comic Sans MS"/>
              </a:rPr>
              <a:t>гіпермедійний дизайн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66"/>
                </a:solidFill>
                <a:latin typeface="Comic Sans MS"/>
              </a:rPr>
              <a:t>програмна інженері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547-B40B-445B-AD41-4D78281442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Інформатичні компетентності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програмуванн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ІКТ-компетентність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математична інформати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CAC-18AC-4660-B4C4-39B7E32B63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132560" y="644400"/>
            <a:ext cx="62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Математична інформ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75560" y="2571840"/>
            <a:ext cx="374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Програмув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34720" y="4724280"/>
            <a:ext cx="8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І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92360" y="1341360"/>
            <a:ext cx="1584360" cy="129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зв᾽я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92360" y="3213000"/>
            <a:ext cx="1584360" cy="129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зв᾽я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236000" y="907920"/>
            <a:ext cx="1223640" cy="4897440"/>
          </a:xfrm>
          <a:custGeom>
            <a:avLst/>
            <a:gdLst>
              <a:gd name="textAreaLeft" fmla="*/ 163800 w 1223640"/>
              <a:gd name="textAreaRight" fmla="*/ 1059840 w 1223640"/>
              <a:gd name="textAreaTop" fmla="*/ 856800 h 4897440"/>
              <a:gd name="textAreaBottom" fmla="*/ 3550680 h 489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ос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305-B2F7-4CFB-BCB2-0799D29403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"/>
          <p:cNvGrpSpPr/>
          <p:nvPr/>
        </p:nvGrpSpPr>
        <p:grpSpPr>
          <a:xfrm>
            <a:off x="1999440" y="107640"/>
            <a:ext cx="4602960" cy="6422040"/>
            <a:chOff x="1999440" y="107640"/>
            <a:chExt cx="4602960" cy="6422040"/>
          </a:xfrm>
        </p:grpSpPr>
        <p:sp>
          <p:nvSpPr>
            <p:cNvPr id="734" name="_s98310"/>
            <p:cNvSpPr/>
            <p:nvPr/>
          </p:nvSpPr>
          <p:spPr>
            <a:xfrm flipV="1">
              <a:off x="3534120" y="106920"/>
              <a:ext cx="1533960" cy="2140920"/>
            </a:xfrm>
            <a:custGeom>
              <a:avLst/>
              <a:gdLst>
                <a:gd name="textAreaLeft" fmla="*/ 550440 w 1533960"/>
                <a:gd name="textAreaRight" fmla="*/ 983520 w 1533960"/>
                <a:gd name="textAreaTop" fmla="*/ 768240 h 2140920"/>
                <a:gd name="textAreaBottom" fmla="*/ 1372680 h 214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99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00"/>
                  </a:solidFill>
                  <a:latin typeface="Comic Sans MS"/>
                </a:rPr>
                <a:t>ІК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_s98311"/>
            <p:cNvSpPr/>
            <p:nvPr/>
          </p:nvSpPr>
          <p:spPr>
            <a:xfrm flipV="1">
              <a:off x="2766600" y="2247840"/>
              <a:ext cx="3068640" cy="2140200"/>
            </a:xfrm>
            <a:custGeom>
              <a:avLst/>
              <a:gdLst>
                <a:gd name="textAreaLeft" fmla="*/ 674640 w 3068640"/>
                <a:gd name="textAreaRight" fmla="*/ 2394000 w 3068640"/>
                <a:gd name="textAreaTop" fmla="*/ 470520 h 2140200"/>
                <a:gd name="textAreaBottom" fmla="*/ 1669680 h 214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cc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Comic Sans MS"/>
                </a:rPr>
                <a:t>програмуванн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_s98315"/>
            <p:cNvSpPr/>
            <p:nvPr/>
          </p:nvSpPr>
          <p:spPr>
            <a:xfrm flipV="1">
              <a:off x="1999440" y="4388400"/>
              <a:ext cx="4602960" cy="2140920"/>
            </a:xfrm>
            <a:custGeom>
              <a:avLst/>
              <a:gdLst>
                <a:gd name="textAreaLeft" fmla="*/ 798840 w 4602960"/>
                <a:gd name="textAreaRight" fmla="*/ 3804120 w 4602960"/>
                <a:gd name="textAreaTop" fmla="*/ 371520 h 2140920"/>
                <a:gd name="textAreaBottom" fmla="*/ 1769400 h 214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Comic Sans MS"/>
                </a:rPr>
                <a:t>математична інформатик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D67-1DFC-45EB-A24F-1AD679F846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773080" y="644400"/>
            <a:ext cx="29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Матем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545840" y="2571840"/>
            <a:ext cx="53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Функціональний підхі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7080" y="4659480"/>
            <a:ext cx="74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Програмування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функціональною мовою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851280" y="1341360"/>
            <a:ext cx="792000" cy="1295640"/>
          </a:xfrm>
          <a:prstGeom prst="downArrow">
            <a:avLst>
              <a:gd name="adj1" fmla="val 50000"/>
              <a:gd name="adj2" fmla="val 4089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781440" y="3213000"/>
            <a:ext cx="934920" cy="1295640"/>
          </a:xfrm>
          <a:prstGeom prst="downArrow">
            <a:avLst>
              <a:gd name="adj1" fmla="val 50000"/>
              <a:gd name="adj2" fmla="val 3464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D4BAA5-6E17-4AED-A620-3C547C866F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Гарний стиль програмуван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атування коду, підкреслення його структури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лідовність в застосуванні відступі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користання природної форми виразі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користання дужок для усунення неточностей та розбиття складних виразі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ережність з побічними ефект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1363C-778A-4A96-892A-7507D8F56A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987280" y="905040"/>
            <a:ext cx="5699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ування коду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ідкреслення структури, послідовність в застосуванні відсту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457344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матичне визначення величини відступ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575600" y="285264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Scheme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278280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C8335-F88A-46E0-A813-0E3D6656AA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987280" y="115920"/>
            <a:ext cx="5699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ористання природної форми вираз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82800" cy="299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0" name=""/>
          <p:cNvGraphicFramePr/>
          <p:nvPr/>
        </p:nvGraphicFramePr>
        <p:xfrm>
          <a:off x="2843280" y="1684440"/>
          <a:ext cx="5976720" cy="4768920"/>
        </p:xfrm>
        <a:graphic>
          <a:graphicData uri="http://schemas.openxmlformats.org/drawingml/2006/table">
            <a:tbl>
              <a:tblPr/>
              <a:tblGrid>
                <a:gridCol w="1871280"/>
                <a:gridCol w="1871640"/>
                <a:gridCol w="223380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.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.f(x,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y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da(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 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 x y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*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*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* 3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+ 3 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+ 3 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 2 3 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3 –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3 –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 1 3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/ 3 /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/ 3 /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/ 2 3 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3– 4 +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5 *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3– 4 +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5 *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 (– 6 3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* 4 5 2)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355598-EBAE-4BA3-AC8D-39E4FA7C7B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833200" y="689040"/>
            <a:ext cx="61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ористання дужок для усунення неточносте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биття складних вираз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82800" cy="299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3" name=""/>
          <p:cNvGraphicFramePr/>
          <p:nvPr/>
        </p:nvGraphicFramePr>
        <p:xfrm>
          <a:off x="2195640" y="3502080"/>
          <a:ext cx="6095880" cy="16556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16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+6*3−2*4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 (* 6 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* 2 4))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19601D-66E1-4E91-878C-9EF369CCC5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987280" y="905040"/>
            <a:ext cx="5699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режність з побічними ефе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06400" y="429228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утність побічних ефекті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851360" y="254952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me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8280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000169-9DA3-449D-8A87-15E2A6285F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Результат освіти – система компетентностей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3212640"/>
            <a:ext cx="769608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ключові:                    </a:t>
            </a: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агальнопредметні:   </a:t>
            </a: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+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предметні:                 </a:t>
            </a: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-+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539640" y="227664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Стан розробки компетентностей в Україн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F41-7F5F-4310-98D8-7B588D78F5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63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Здатність</a:t>
            </a: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до поетапного розв’язування поставленої задачі</a:t>
            </a: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(розбиття на підзадачі)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5CC16-E003-4DB4-8738-FBDA4CCB18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дача:</a:t>
            </a:r>
            <a:br>
              <a:rPr sz="44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найти час польоту тіла, кинутого під кутом до горизонту з висо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і сталою швидкістю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179280" y="2398680"/>
            <a:ext cx="6767640" cy="427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3995640" y="1413000"/>
                <a:ext cx="34797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r>
                          <m:t xml:space="preserve">V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t</m:t>
                    </m:r>
                    <m:r>
                      <m:t xml:space="preserve">+</m:t>
                    </m:r>
                    <m:limUpp>
                      <m:e>
                        <m:r>
                          <m:t xml:space="preserve">g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3922560" y="2637000"/>
                <a:ext cx="53294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g</m:t>
                    </m:r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66EF3-32E2-4772-B1ED-42745EF51E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Етапи розв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᾽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язування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 Знаходження дискримінанту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179280" y="2276640"/>
          <a:ext cx="8820360" cy="2330280"/>
        </p:xfrm>
        <a:graphic>
          <a:graphicData uri="http://schemas.openxmlformats.org/drawingml/2006/table">
            <a:tbl>
              <a:tblPr/>
              <a:tblGrid>
                <a:gridCol w="2448000"/>
                <a:gridCol w="2879640"/>
                <a:gridCol w="3492720"/>
              </a:tblGrid>
              <a:tr h="23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= b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4*a*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4*a*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fine 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bda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− (* b b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* 4 a c)))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6" name=""/>
          <p:cNvSpPr/>
          <p:nvPr/>
        </p:nvSpPr>
        <p:spPr>
          <a:xfrm>
            <a:off x="2411280" y="4776840"/>
            <a:ext cx="41054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def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 b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− (* b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* 4 a c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4FF2C-8F17-4121-AFC3-EF8AFE758D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2. Знаходження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1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oot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106200" y="2637000"/>
          <a:ext cx="8929800" cy="2055600"/>
        </p:xfrm>
        <a:graphic>
          <a:graphicData uri="http://schemas.openxmlformats.org/drawingml/2006/table">
            <a:tbl>
              <a:tblPr/>
              <a:tblGrid>
                <a:gridCol w="2448000"/>
                <a:gridCol w="2879640"/>
                <a:gridCol w="3602160"/>
              </a:tblGrid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(-b+√D)/(2*a)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fine (root1 a b 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/ (+ (* −1 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qrt (D a b c))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* 2 a))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71280" y="3068640"/>
                <a:ext cx="255600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ot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02397-A6E0-4B10-ACBA-722F7AE1B9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загальнена функці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23640" y="1828440"/>
            <a:ext cx="80643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define (quadratic a b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cond ((&lt; (D a b c)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'(Действительных корней не существует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(= (D a b c) 0) (root1 a b c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else (list (root1 a b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root2 a b c)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BB1A45-38B8-4762-9768-9845FDB223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define g 9.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define (time-to-impact h v alph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let ((a (/ (* −1 g) 2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b (* v (sin alpha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c h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if (&lt; (D a b c)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'(Неправильные дан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root2 a b c)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D7D794-9F33-4A9B-B63F-19C494A3CD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898280" y="2420640"/>
            <a:ext cx="5986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Абстрактне мислення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A0280-CBF4-4014-8F6F-EE97782699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4720" y="468000"/>
            <a:ext cx="69120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екурсі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дача: знайт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-й спосіб: лінійно рекурсивний проц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!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·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− 1) ·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− 2) ·…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· 2 ·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define (factorial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if (= n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* n (factorial (– n 1))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C8F730-06E6-430E-98C6-38FE5F7597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10920" y="11592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екурсі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555920" y="1267920"/>
            <a:ext cx="7696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дача: знайт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-й спосіб: лінійно ітеративний проц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!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− 1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fine (factorial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fine (iter result coun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f (&gt; counter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ter (* counter resu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+ counter 1)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ter 1 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AB6C5-374F-4630-AE35-BCFE5676EA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Використання функцій як параметр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Знайти суму цілих чисел від a до 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define (sum-integers 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if (&gt; 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+ a (sum-integers (+ a 1) b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9441D8-8F47-4C20-A200-CA81BFF904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574560" y="333360"/>
            <a:ext cx="7453080" cy="5943240"/>
            <a:chOff x="574560" y="333360"/>
            <a:chExt cx="7453080" cy="5943240"/>
          </a:xfrm>
        </p:grpSpPr>
        <p:cxnSp>
          <p:nvCxnSpPr>
            <p:cNvPr id="679" name="_s101419"/>
            <p:cNvCxnSpPr>
              <a:stCxn id="680" idx="1"/>
              <a:endCxn id="681" idx="2"/>
            </p:cNvCxnSpPr>
            <p:nvPr/>
          </p:nvCxnSpPr>
          <p:spPr>
            <a:xfrm rot="10800000">
              <a:off x="1638360" y="1476360"/>
              <a:ext cx="355680" cy="4572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2" name="_s101420"/>
            <p:cNvCxnSpPr>
              <a:stCxn id="683" idx="0"/>
              <a:endCxn id="684" idx="2"/>
            </p:cNvCxnSpPr>
            <p:nvPr/>
          </p:nvCxnSpPr>
          <p:spPr>
            <a:xfrm flipV="1" rot="16200000">
              <a:off x="5517000" y="-426240"/>
              <a:ext cx="229320" cy="2662560"/>
            </a:xfrm>
            <a:prstGeom prst="bentConnector3">
              <a:avLst>
                <a:gd name="adj1" fmla="val 501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5" name="_s101421"/>
            <p:cNvCxnSpPr>
              <a:stCxn id="686" idx="1"/>
              <a:endCxn id="681" idx="2"/>
            </p:cNvCxnSpPr>
            <p:nvPr/>
          </p:nvCxnSpPr>
          <p:spPr>
            <a:xfrm rot="10800000">
              <a:off x="1638360" y="1476360"/>
              <a:ext cx="355680" cy="182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7" name="_s101422"/>
            <p:cNvCxnSpPr>
              <a:stCxn id="688" idx="1"/>
              <a:endCxn id="681" idx="2"/>
            </p:cNvCxnSpPr>
            <p:nvPr/>
          </p:nvCxnSpPr>
          <p:spPr>
            <a:xfrm rot="10800000">
              <a:off x="1638360" y="1476360"/>
              <a:ext cx="355680" cy="388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9" name="_s101423"/>
            <p:cNvCxnSpPr>
              <a:stCxn id="690" idx="1"/>
              <a:endCxn id="691" idx="2"/>
            </p:cNvCxnSpPr>
            <p:nvPr/>
          </p:nvCxnSpPr>
          <p:spPr>
            <a:xfrm rot="10800000">
              <a:off x="4478040" y="1475640"/>
              <a:ext cx="355320" cy="3201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2" name="_s101424"/>
            <p:cNvCxnSpPr>
              <a:stCxn id="693" idx="1"/>
              <a:endCxn id="691" idx="2"/>
            </p:cNvCxnSpPr>
            <p:nvPr/>
          </p:nvCxnSpPr>
          <p:spPr>
            <a:xfrm rot="10800000">
              <a:off x="4478040" y="1475640"/>
              <a:ext cx="355320" cy="251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4" name="_s101425"/>
            <p:cNvCxnSpPr>
              <a:stCxn id="695" idx="1"/>
              <a:endCxn id="691" idx="2"/>
            </p:cNvCxnSpPr>
            <p:nvPr/>
          </p:nvCxnSpPr>
          <p:spPr>
            <a:xfrm rot="10800000">
              <a:off x="4478040" y="1475640"/>
              <a:ext cx="355320" cy="183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6" name="_s101426"/>
            <p:cNvCxnSpPr>
              <a:stCxn id="697" idx="1"/>
              <a:endCxn id="691" idx="2"/>
            </p:cNvCxnSpPr>
            <p:nvPr/>
          </p:nvCxnSpPr>
          <p:spPr>
            <a:xfrm rot="10800000">
              <a:off x="4478040" y="1475640"/>
              <a:ext cx="355320" cy="114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8" name="_s101427"/>
            <p:cNvCxnSpPr>
              <a:stCxn id="699" idx="1"/>
              <a:endCxn id="691" idx="2"/>
            </p:cNvCxnSpPr>
            <p:nvPr/>
          </p:nvCxnSpPr>
          <p:spPr>
            <a:xfrm rot="10800000">
              <a:off x="4478040" y="1475640"/>
              <a:ext cx="355320" cy="45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0" name="_s101428"/>
            <p:cNvCxnSpPr>
              <a:stCxn id="691" idx="0"/>
              <a:endCxn id="684" idx="2"/>
            </p:cNvCxnSpPr>
            <p:nvPr/>
          </p:nvCxnSpPr>
          <p:spPr>
            <a:xfrm flipV="1" rot="16200000">
              <a:off x="4275360" y="816120"/>
              <a:ext cx="229320" cy="178200"/>
            </a:xfrm>
            <a:prstGeom prst="bentConnector3">
              <a:avLst>
                <a:gd name="adj1" fmla="val 501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1" name="_s101429"/>
            <p:cNvCxnSpPr>
              <a:stCxn id="702" idx="1"/>
              <a:endCxn id="681" idx="2"/>
            </p:cNvCxnSpPr>
            <p:nvPr/>
          </p:nvCxnSpPr>
          <p:spPr>
            <a:xfrm rot="10800000">
              <a:off x="1638360" y="1476360"/>
              <a:ext cx="355680" cy="320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3" name="_s101430"/>
            <p:cNvCxnSpPr>
              <a:stCxn id="704" idx="1"/>
              <a:endCxn id="681" idx="2"/>
            </p:cNvCxnSpPr>
            <p:nvPr/>
          </p:nvCxnSpPr>
          <p:spPr>
            <a:xfrm rot="10800000">
              <a:off x="1638360" y="1476360"/>
              <a:ext cx="355680" cy="251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5" name="_s101431"/>
            <p:cNvCxnSpPr>
              <a:stCxn id="706" idx="1"/>
              <a:endCxn id="681" idx="2"/>
            </p:cNvCxnSpPr>
            <p:nvPr/>
          </p:nvCxnSpPr>
          <p:spPr>
            <a:xfrm rot="10800000">
              <a:off x="1638360" y="1476360"/>
              <a:ext cx="355680" cy="114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7" name="_s101432"/>
            <p:cNvCxnSpPr>
              <a:stCxn id="708" idx="1"/>
              <a:endCxn id="681" idx="2"/>
            </p:cNvCxnSpPr>
            <p:nvPr/>
          </p:nvCxnSpPr>
          <p:spPr>
            <a:xfrm rot="10800000">
              <a:off x="1638360" y="1476360"/>
              <a:ext cx="35568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9" name="_s101433"/>
            <p:cNvCxnSpPr>
              <a:stCxn id="681" idx="0"/>
              <a:endCxn id="684" idx="2"/>
            </p:cNvCxnSpPr>
            <p:nvPr/>
          </p:nvCxnSpPr>
          <p:spPr>
            <a:xfrm flipH="1" flipV="1" rot="5400000">
              <a:off x="2855160" y="-425880"/>
              <a:ext cx="229320" cy="2662200"/>
            </a:xfrm>
            <a:prstGeom prst="bentConnector3">
              <a:avLst>
                <a:gd name="adj1" fmla="val 501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4" name="_s101434"/>
            <p:cNvSpPr/>
            <p:nvPr/>
          </p:nvSpPr>
          <p:spPr>
            <a:xfrm>
              <a:off x="1747800" y="333360"/>
              <a:ext cx="5105520" cy="457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Comic Sans MS"/>
                </a:rPr>
                <a:t>Професійні компетентності вчителя інформат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_s101435"/>
            <p:cNvSpPr/>
            <p:nvPr/>
          </p:nvSpPr>
          <p:spPr>
            <a:xfrm>
              <a:off x="574560" y="1020240"/>
              <a:ext cx="2129400" cy="456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ключов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_s101436"/>
            <p:cNvSpPr/>
            <p:nvPr/>
          </p:nvSpPr>
          <p:spPr>
            <a:xfrm>
              <a:off x="1994400" y="1706040"/>
              <a:ext cx="2129400" cy="456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навчаль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_s101437"/>
            <p:cNvSpPr/>
            <p:nvPr/>
          </p:nvSpPr>
          <p:spPr>
            <a:xfrm>
              <a:off x="1994400" y="2391480"/>
              <a:ext cx="2129400" cy="456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соціаль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_s101438"/>
            <p:cNvSpPr/>
            <p:nvPr/>
          </p:nvSpPr>
          <p:spPr>
            <a:xfrm>
              <a:off x="1994400" y="3762720"/>
              <a:ext cx="2129400" cy="456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здоров’язберігаюч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_s101439"/>
            <p:cNvSpPr/>
            <p:nvPr/>
          </p:nvSpPr>
          <p:spPr>
            <a:xfrm>
              <a:off x="1994400" y="4448160"/>
              <a:ext cx="2129400" cy="456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ІК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_s101440"/>
            <p:cNvSpPr/>
            <p:nvPr/>
          </p:nvSpPr>
          <p:spPr>
            <a:xfrm>
              <a:off x="3413880" y="1020240"/>
              <a:ext cx="2129400" cy="4557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загальнопрофесійн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_s101441"/>
            <p:cNvSpPr/>
            <p:nvPr/>
          </p:nvSpPr>
          <p:spPr>
            <a:xfrm>
              <a:off x="4833720" y="1706040"/>
              <a:ext cx="2129400" cy="4557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методич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_s101442"/>
            <p:cNvSpPr/>
            <p:nvPr/>
          </p:nvSpPr>
          <p:spPr>
            <a:xfrm>
              <a:off x="4833720" y="2391480"/>
              <a:ext cx="2129400" cy="456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науково-дослідниць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_s101443"/>
            <p:cNvSpPr/>
            <p:nvPr/>
          </p:nvSpPr>
          <p:spPr>
            <a:xfrm>
              <a:off x="4833720" y="3076920"/>
              <a:ext cx="2132640" cy="456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сихолого-педагогіч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_s101444"/>
            <p:cNvSpPr/>
            <p:nvPr/>
          </p:nvSpPr>
          <p:spPr>
            <a:xfrm>
              <a:off x="4833720" y="3762720"/>
              <a:ext cx="2568240" cy="456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організаційно-управлінсь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101445"/>
            <p:cNvSpPr/>
            <p:nvPr/>
          </p:nvSpPr>
          <p:spPr>
            <a:xfrm>
              <a:off x="4833720" y="4448160"/>
              <a:ext cx="2128680" cy="456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ІК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101446"/>
            <p:cNvSpPr/>
            <p:nvPr/>
          </p:nvSpPr>
          <p:spPr>
            <a:xfrm>
              <a:off x="1994400" y="5133600"/>
              <a:ext cx="2129400" cy="457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громадянсь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101447"/>
            <p:cNvSpPr/>
            <p:nvPr/>
          </p:nvSpPr>
          <p:spPr>
            <a:xfrm>
              <a:off x="1994400" y="3076920"/>
              <a:ext cx="2129400" cy="456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загальнокультур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101448"/>
            <p:cNvSpPr/>
            <p:nvPr/>
          </p:nvSpPr>
          <p:spPr>
            <a:xfrm>
              <a:off x="5898240" y="1020240"/>
              <a:ext cx="2129400" cy="4564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спеціальні професійн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_s101449"/>
            <p:cNvSpPr/>
            <p:nvPr/>
          </p:nvSpPr>
          <p:spPr>
            <a:xfrm>
              <a:off x="1994400" y="5820120"/>
              <a:ext cx="2128680" cy="456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ідприємниць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110840" y="4670640"/>
              <a:ext cx="35316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7B80E-70C5-4EED-B539-1547325477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найти суму квадратів цілих чисел від а до 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define (sum-squares 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if (&gt; 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+ (square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sum-squares (+ a 1) b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698C16-0143-4FC5-8F64-AA0D48479B7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. Знайти суму парних чисел в заданому діапазон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ine (sum-pairs-numbers 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f (&gt; 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+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m-pairs-numbers (+ a 2) b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6EE24E-9901-4A3B-8BFD-BBA4FD8ABB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блон функції s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define (&lt;ім’я&gt; 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if (&gt; 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+ (&lt;терм&gt;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&lt;ім’я&gt; (&lt;наступне&gt; a) b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D1246D-FAB0-456F-9973-EA1B5E9E976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Функція, яка виражає загальне поняття су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define (sum term a next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if (&gt; 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+ (term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sum term (next a) next b)))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8EE5D-F35C-4CC0-B6AC-8960CCF760A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7696080" cy="34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m-squa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ine (sum-squares 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m square a inc b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m-inte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ine (sum-integers 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m identity a inc b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E3ABC3-5A03-4C93-8F9A-63E64E7C91A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ямки подальших досл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жен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робка узагальненої системи компетентностей з програмування та індикаторів їх сформовано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алізація можливості роботи у веб-середовищ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F55EA-6182-4FF3-9805-AF7D58E9FE3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684360" y="1628640"/>
            <a:ext cx="7848360" cy="28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якую за увагу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41272-B525-4406-999D-35B97FCF10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Структура інформатичних компетентностей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(М.І. Жалдак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інформологічно-методологічні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інформаційно-технологічні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комп’ютерні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дельні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горитмічні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AF7-0F80-4148-8FD7-8C16F6285D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Структура інформатичних компетентностей (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.Г. Кіріллов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тематичн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мпетентність користувач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інформаційно-системн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хнічн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мпетентності з програмуванн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0DE-729F-49B2-BF5F-7717E2C3BF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388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Структура інформатичних компетентностей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(департамент освіти штату Огайо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інформаційні служби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ережні системи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грамування та розробка програмного забезпечення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інтерактивні засоби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7003-44E4-411B-A5CA-BD27C746D1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-324000" y="96480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Структура інформатичних компетентностей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(Північно-східний центр новітніх технологій,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Вашингтон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4360" y="26510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ристувача (ІКТ-компетентності)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граміста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дміністратора комп’ютерної систе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844D-8A62-4B1E-9022-32B8DB55A5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Фундаментальні розділи інформатики (М.В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Швецьк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й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00000" y="1712880"/>
            <a:ext cx="82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алгорит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програмуванн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структури даних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комп’ютерна графіка і обчислювальна геометрі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архітектура ЕО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мови програмування: парадигми та організаці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конструювання інтерпретаторів та компіляторі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бази даних та інформаційний пошук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штучний інтелект (програмно-прагматичний підхід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дискретна математика та теорія алгоритмів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7C2-1C75-46C9-A043-F9F64ADD8F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687096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Фундаментальні розділи інформатики (Н.В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Морз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447920" y="134136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теоретичні основи інформатик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теорія алгоритмів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структури даних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технологія розробки програмного забезпеченн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архітектура комп’ютерних систем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парадигми програмуванн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комп’ютерна графік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операційні систем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інформаційні систем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теоретичні основи баз даних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588F-1774-498F-81E5-53997FB911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9:49:36Z</dcterms:created>
  <dc:creator>SamLab.ws</dc:creator>
  <dc:description/>
  <dc:language>en-US</dc:language>
  <cp:lastModifiedBy>SamLab.ws</cp:lastModifiedBy>
  <dcterms:modified xsi:type="dcterms:W3CDTF">2009-10-15T11:33:41Z</dcterms:modified>
  <cp:revision>16</cp:revision>
  <dc:subject/>
  <dc:title>«Формування інформатичних компетентностей студентів засобами функціональної мови програмування Scheme» </dc:title>
</cp:coreProperties>
</file>